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3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A7F-3600-4097-8BFA-30DF0756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AF7-4416-47B6-9687-8833AE1C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FCA-C5E9-413A-959D-C08C636A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D41-E814-4AF7-8BD2-3411ACBC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C125-6A89-4CCD-902A-8790FA0F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C972-F449-4894-AC9A-BC0918E4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329D-C33B-4AA3-92F7-D2D6C4FD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03F1-B5E2-4695-8F7A-78619F2D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7B13-82EE-4429-936B-B3B44597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837D-486C-45EA-B195-659E620D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E5DF-CFB8-4DBF-B971-6469B9EF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3F1-A09D-4916-9B50-C1660664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50AE-79EA-4C3D-86C9-122A882B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388B-0AF2-4D0F-88FB-FA20C2E4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ED56-225E-4049-8571-D750AE92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C9DE-6A9D-42C6-9BEB-5752F89E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EA9D-9302-40C4-B27F-B104D572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C10-FDC7-481B-945B-F5BE0E31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23F-1776-4659-A813-74AD7597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948-5F03-451E-9939-2773A476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198-F634-4B24-8CBC-10A61903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E01-A15B-4BFA-80BB-F1EE7639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1CD-1791-48A8-8336-EE9B5C92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822-906D-4621-8C71-9EA02F51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8A4A-33D5-4012-A4B3-E5C8E408EC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EE31-FDA1-45C5-A630-8FD3002000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838440" y="1752120"/>
            <a:ext cx="108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Тема урока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Простейшие вероятностные  задачи»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Arial"/>
              </a:rPr>
              <a:t>1 курс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84360" y="60213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еподаватель математики Игнатьева Наталья Львов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БПОУ РК «Белогорский технологический техникум»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6" descr="0_7d991_8f68c382_XL"/>
          <p:cNvPicPr/>
          <p:nvPr/>
        </p:nvPicPr>
        <p:blipFill>
          <a:blip r:embed="rId1"/>
          <a:stretch/>
        </p:blipFill>
        <p:spPr>
          <a:xfrm rot="1098600">
            <a:off x="380520" y="3429000"/>
            <a:ext cx="31626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57200" y="3726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частное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но и будет равно вероятности события 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5691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начит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4" descr="Formyla"/>
          <p:cNvPicPr/>
          <p:nvPr/>
        </p:nvPicPr>
        <p:blipFill>
          <a:blip r:embed="rId1"/>
          <a:stretch/>
        </p:blipFill>
        <p:spPr>
          <a:xfrm>
            <a:off x="152280" y="152280"/>
            <a:ext cx="1543320" cy="2133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1904040" y="152280"/>
            <a:ext cx="685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горитм нахождения вероят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лучайного собы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1752480" y="1600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нахождения вероятности случайного события А при проведении некоторого испытания следует найт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914400" y="2590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число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сех возможных исходов данного испыт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57200" y="3124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количество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тех исходов, в которых наступает             событие 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929160" y="4952880"/>
            <a:ext cx="73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ято вероятность события А обозначать так:  Р(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TextBox 2" descr=""/>
          <p:cNvPicPr/>
          <p:nvPr/>
        </p:nvPicPr>
        <p:blipFill>
          <a:blip r:embed="rId2"/>
          <a:stretch/>
        </p:blipFill>
        <p:spPr>
          <a:xfrm>
            <a:off x="2719440" y="3906720"/>
            <a:ext cx="938160" cy="8049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17" descr=""/>
          <p:cNvPicPr/>
          <p:nvPr/>
        </p:nvPicPr>
        <p:blipFill>
          <a:blip r:embed="rId3"/>
          <a:stretch/>
        </p:blipFill>
        <p:spPr>
          <a:xfrm>
            <a:off x="2163600" y="5553000"/>
            <a:ext cx="20545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-45720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р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завод привезли партию из 1000 подшипников. Случайно в эту партию попало 30 подшипников, не удовлетворяющих стандарту. Определить вероятность Р(А) того, что взятый наудачу подшипник окажется стандарт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8" descr="259621"/>
          <p:cNvPicPr/>
          <p:nvPr/>
        </p:nvPicPr>
        <p:blipFill>
          <a:blip r:embed="rId1"/>
          <a:stretch/>
        </p:blipFill>
        <p:spPr>
          <a:xfrm>
            <a:off x="228600" y="22860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3387600" y="2171880"/>
            <a:ext cx="57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приятное событие А: подшипник окажется стандарт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7215120" y="1728720"/>
            <a:ext cx="14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3387600" y="3003480"/>
            <a:ext cx="56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о всех возможных исход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1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387600" y="3833640"/>
            <a:ext cx="57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о благоприят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(A)=1000-30=97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3276720" y="50324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TextBox 10" descr=""/>
          <p:cNvPicPr/>
          <p:nvPr/>
        </p:nvPicPr>
        <p:blipFill>
          <a:blip r:embed="rId2"/>
          <a:stretch/>
        </p:blipFill>
        <p:spPr>
          <a:xfrm>
            <a:off x="4529160" y="4857840"/>
            <a:ext cx="3627360" cy="811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1"/>
          <p:cNvSpPr/>
          <p:nvPr/>
        </p:nvSpPr>
        <p:spPr>
          <a:xfrm>
            <a:off x="1143000" y="5580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0.97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TextBox 12" descr=""/>
          <p:cNvPicPr/>
          <p:nvPr/>
        </p:nvPicPr>
        <p:blipFill>
          <a:blip r:embed="rId3"/>
          <a:stretch/>
        </p:blipFill>
        <p:spPr>
          <a:xfrm>
            <a:off x="7961400" y="5029200"/>
            <a:ext cx="10065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190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авило умножения: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того, чтобы найти число всех      возможных исходов  независимого проведения двух испытаний  А и В, следует перемножить число всех исходов испытания А  и число всех исходов испытания 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0240" y="17938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01600" y="225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дем вероятность того, что при подбрасывании двух костей  суммарное число очков окажется равным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80880" y="3505320"/>
            <a:ext cx="84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приятное событие 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сумме выпало 5 оч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246240" y="4067280"/>
            <a:ext cx="84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о всех возможных исход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235080" y="5348160"/>
            <a:ext cx="52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благоприят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(A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326520" y="4529160"/>
            <a:ext cx="316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 кость - 6 вариан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-я кость - 6 вариан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3273480" y="4529160"/>
            <a:ext cx="503280" cy="86364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3776760" y="4729320"/>
            <a:ext cx="20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=6∙6=3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5175360" y="535932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+ 4,  2 + 3,  3 + 2,  4 +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=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46240" y="310824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Box 17"/>
          <p:cNvSpPr/>
          <p:nvPr/>
        </p:nvSpPr>
        <p:spPr>
          <a:xfrm>
            <a:off x="246240" y="58118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TextBox 14" descr=""/>
          <p:cNvPicPr/>
          <p:nvPr/>
        </p:nvPicPr>
        <p:blipFill>
          <a:blip r:embed="rId1"/>
          <a:stretch/>
        </p:blipFill>
        <p:spPr>
          <a:xfrm>
            <a:off x="1279440" y="5638680"/>
            <a:ext cx="3395880" cy="8049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1"/>
          <p:cNvSpPr/>
          <p:nvPr/>
        </p:nvSpPr>
        <p:spPr>
          <a:xfrm>
            <a:off x="5413320" y="6080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TextBox 15" descr=""/>
          <p:cNvPicPr/>
          <p:nvPr/>
        </p:nvPicPr>
        <p:blipFill>
          <a:blip r:embed="rId2"/>
          <a:stretch/>
        </p:blipFill>
        <p:spPr>
          <a:xfrm>
            <a:off x="6473880" y="5913360"/>
            <a:ext cx="444600" cy="798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0_7d991_8f68c382_XL"/>
          <p:cNvPicPr/>
          <p:nvPr/>
        </p:nvPicPr>
        <p:blipFill>
          <a:blip r:embed="rId3"/>
          <a:stretch/>
        </p:blipFill>
        <p:spPr>
          <a:xfrm flipH="1" rot="2295000">
            <a:off x="6857640" y="4038480"/>
            <a:ext cx="18673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304920" y="152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бытия А и В называются противоположным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сли всякое наступление события А означа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наступление события В, а ненаступление события А – наступление события В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83040" y="19051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0492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росаем один раз игральную к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11" descr="7c6a092b8286"/>
          <p:cNvPicPr/>
          <p:nvPr/>
        </p:nvPicPr>
        <p:blipFill>
          <a:blip r:embed="rId1"/>
          <a:stretch/>
        </p:blipFill>
        <p:spPr>
          <a:xfrm rot="1081800">
            <a:off x="2361960" y="3885840"/>
            <a:ext cx="121752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0bf81fe1e0ac"/>
          <p:cNvPicPr/>
          <p:nvPr/>
        </p:nvPicPr>
        <p:blipFill>
          <a:blip r:embed="rId2"/>
          <a:stretch/>
        </p:blipFill>
        <p:spPr>
          <a:xfrm rot="20615400">
            <a:off x="1219320" y="3885840"/>
            <a:ext cx="106524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09b4acc1d649"/>
          <p:cNvPicPr/>
          <p:nvPr/>
        </p:nvPicPr>
        <p:blipFill>
          <a:blip r:embed="rId3"/>
          <a:stretch/>
        </p:blipFill>
        <p:spPr>
          <a:xfrm rot="654000">
            <a:off x="1828440" y="4876920"/>
            <a:ext cx="1116000" cy="167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3924ee89ce58"/>
          <p:cNvPicPr/>
          <p:nvPr/>
        </p:nvPicPr>
        <p:blipFill>
          <a:blip r:embed="rId4"/>
          <a:stretch/>
        </p:blipFill>
        <p:spPr>
          <a:xfrm rot="20403000">
            <a:off x="5943600" y="3657240"/>
            <a:ext cx="1065240" cy="1600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31432a890663"/>
          <p:cNvPicPr/>
          <p:nvPr/>
        </p:nvPicPr>
        <p:blipFill>
          <a:blip r:embed="rId5"/>
          <a:stretch/>
        </p:blipFill>
        <p:spPr>
          <a:xfrm>
            <a:off x="6934320" y="3505320"/>
            <a:ext cx="1116000" cy="1676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6d3ef55ee473"/>
          <p:cNvPicPr/>
          <p:nvPr/>
        </p:nvPicPr>
        <p:blipFill>
          <a:blip r:embed="rId6"/>
          <a:stretch/>
        </p:blipFill>
        <p:spPr>
          <a:xfrm rot="716400">
            <a:off x="6400800" y="4572000"/>
            <a:ext cx="1319040" cy="1981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"/>
          <p:cNvSpPr/>
          <p:nvPr/>
        </p:nvSpPr>
        <p:spPr>
          <a:xfrm>
            <a:off x="306360" y="2816280"/>
            <a:ext cx="66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ытие А – выпадение четного числа очков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304920" y="32781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ыт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- выпадение нечетного числа оч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203200" y="609480"/>
            <a:ext cx="393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Решим задачу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63680" y="1981080"/>
            <a:ext cx="872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среднем из 1000 аккумуляторов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ступивших в продажу, 6 неисправ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ы. Найдите вероятность того, что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дин купленный аккумулятор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кажется исправным.   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2136600" y="60948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Решение задач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73400" y="1981080"/>
            <a:ext cx="8314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онета бросается два раз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кова вероятность того, что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герб выпадет хотя бы один раз?   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8" descr="монетки"/>
          <p:cNvPicPr/>
          <p:nvPr/>
        </p:nvPicPr>
        <p:blipFill>
          <a:blip r:embed="rId1"/>
          <a:stretch/>
        </p:blipFill>
        <p:spPr>
          <a:xfrm>
            <a:off x="5791320" y="4113360"/>
            <a:ext cx="23619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80360" y="685800"/>
            <a:ext cx="861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Монета бросается два раза. Какова вероятность того, что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герб выпадет хотя бы один раз?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380880" y="1797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95280" y="237636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приятное событие А: герб выпадет хотя бы один ра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357120" y="2874960"/>
            <a:ext cx="84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всех возмож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= 2 ∙ 2 = 4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395280" y="3355920"/>
            <a:ext cx="85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благоприят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(A)={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Г, ГР, Р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80880" y="384804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TextBox 4" descr=""/>
          <p:cNvPicPr/>
          <p:nvPr/>
        </p:nvPicPr>
        <p:blipFill>
          <a:blip r:embed="rId1"/>
          <a:stretch/>
        </p:blipFill>
        <p:spPr>
          <a:xfrm>
            <a:off x="1517760" y="3736800"/>
            <a:ext cx="3755880" cy="8049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395280" y="4602240"/>
            <a:ext cx="30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0.7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8" descr="монетки"/>
          <p:cNvPicPr/>
          <p:nvPr/>
        </p:nvPicPr>
        <p:blipFill>
          <a:blip r:embed="rId2"/>
          <a:stretch/>
        </p:blipFill>
        <p:spPr>
          <a:xfrm>
            <a:off x="5791320" y="4113360"/>
            <a:ext cx="23619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28600" y="1522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. В ящике лежат 6 красных и 6 синих шаров. Наудачу вынимают 8 шаров. Определите вероятность события А - все выбранные шары красны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4" descr="11971489111248351002Stellaris_Red_snooker_ball"/>
          <p:cNvPicPr/>
          <p:nvPr/>
        </p:nvPicPr>
        <p:blipFill>
          <a:blip r:embed="rId1"/>
          <a:stretch/>
        </p:blipFill>
        <p:spPr>
          <a:xfrm>
            <a:off x="6705720" y="274320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molumen_blue_cristal_ball"/>
          <p:cNvPicPr/>
          <p:nvPr/>
        </p:nvPicPr>
        <p:blipFill>
          <a:blip r:embed="rId2"/>
          <a:stretch/>
        </p:blipFill>
        <p:spPr>
          <a:xfrm>
            <a:off x="5791320" y="327672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4" descr="molumen_blue_cristal_ball"/>
          <p:cNvPicPr/>
          <p:nvPr/>
        </p:nvPicPr>
        <p:blipFill>
          <a:blip r:embed="rId3"/>
          <a:stretch/>
        </p:blipFill>
        <p:spPr>
          <a:xfrm>
            <a:off x="5638680" y="4191120"/>
            <a:ext cx="1500480" cy="1600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5" descr="molumen_blue_cristal_ball"/>
          <p:cNvPicPr/>
          <p:nvPr/>
        </p:nvPicPr>
        <p:blipFill>
          <a:blip r:embed="rId4"/>
          <a:stretch/>
        </p:blipFill>
        <p:spPr>
          <a:xfrm>
            <a:off x="6629400" y="48006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6" descr="molumen_blue_cristal_ball"/>
          <p:cNvPicPr/>
          <p:nvPr/>
        </p:nvPicPr>
        <p:blipFill>
          <a:blip r:embed="rId5"/>
          <a:stretch/>
        </p:blipFill>
        <p:spPr>
          <a:xfrm>
            <a:off x="4495680" y="5257800"/>
            <a:ext cx="150048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7" descr="molumen_blue_cristal_ball"/>
          <p:cNvPicPr/>
          <p:nvPr/>
        </p:nvPicPr>
        <p:blipFill>
          <a:blip r:embed="rId6"/>
          <a:stretch/>
        </p:blipFill>
        <p:spPr>
          <a:xfrm>
            <a:off x="4419720" y="32004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molumen_blue_cristal_ball"/>
          <p:cNvPicPr/>
          <p:nvPr/>
        </p:nvPicPr>
        <p:blipFill>
          <a:blip r:embed="rId7"/>
          <a:stretch/>
        </p:blipFill>
        <p:spPr>
          <a:xfrm>
            <a:off x="3429000" y="48006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11971489111248351002Stellaris_Red_snooker_ball"/>
          <p:cNvPicPr/>
          <p:nvPr/>
        </p:nvPicPr>
        <p:blipFill>
          <a:blip r:embed="rId8"/>
          <a:stretch/>
        </p:blipFill>
        <p:spPr>
          <a:xfrm>
            <a:off x="7315200" y="4267080"/>
            <a:ext cx="1300320" cy="1320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0" descr="11971489111248351002Stellaris_Red_snooker_ball"/>
          <p:cNvPicPr/>
          <p:nvPr/>
        </p:nvPicPr>
        <p:blipFill>
          <a:blip r:embed="rId9"/>
          <a:stretch/>
        </p:blipFill>
        <p:spPr>
          <a:xfrm>
            <a:off x="5562720" y="553716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1" descr="11971489111248351002Stellaris_Red_snooker_ball"/>
          <p:cNvPicPr/>
          <p:nvPr/>
        </p:nvPicPr>
        <p:blipFill>
          <a:blip r:embed="rId10"/>
          <a:stretch/>
        </p:blipFill>
        <p:spPr>
          <a:xfrm>
            <a:off x="4267080" y="3962520"/>
            <a:ext cx="1300320" cy="132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2" descr="11971489111248351002Stellaris_Red_snooker_ball"/>
          <p:cNvPicPr/>
          <p:nvPr/>
        </p:nvPicPr>
        <p:blipFill>
          <a:blip r:embed="rId11"/>
          <a:stretch/>
        </p:blipFill>
        <p:spPr>
          <a:xfrm>
            <a:off x="3048120" y="312408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3" descr="11971489111248351002Stellaris_Red_snooker_ball"/>
          <p:cNvPicPr/>
          <p:nvPr/>
        </p:nvPicPr>
        <p:blipFill>
          <a:blip r:embed="rId12"/>
          <a:stretch/>
        </p:blipFill>
        <p:spPr>
          <a:xfrm>
            <a:off x="2743200" y="5181480"/>
            <a:ext cx="1300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228600" y="152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В ящике лежат 6 красных и 6 синих шаров. Наудачу вынимают 8 шаров. Определите вероятность события А - все выбранные шары крас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83760" y="1981080"/>
            <a:ext cx="71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(А) = 0, т.к. это событие А - невозмож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14" descr="11971489111248351002Stellaris_Red_snooker_ball"/>
          <p:cNvPicPr/>
          <p:nvPr/>
        </p:nvPicPr>
        <p:blipFill>
          <a:blip r:embed="rId1"/>
          <a:stretch/>
        </p:blipFill>
        <p:spPr>
          <a:xfrm>
            <a:off x="6705720" y="274320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molumen_blue_cristal_ball"/>
          <p:cNvPicPr/>
          <p:nvPr/>
        </p:nvPicPr>
        <p:blipFill>
          <a:blip r:embed="rId2"/>
          <a:stretch/>
        </p:blipFill>
        <p:spPr>
          <a:xfrm>
            <a:off x="5791320" y="327672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molumen_blue_cristal_ball"/>
          <p:cNvPicPr/>
          <p:nvPr/>
        </p:nvPicPr>
        <p:blipFill>
          <a:blip r:embed="rId3"/>
          <a:stretch/>
        </p:blipFill>
        <p:spPr>
          <a:xfrm>
            <a:off x="5638680" y="4191120"/>
            <a:ext cx="1500480" cy="1600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5" descr="molumen_blue_cristal_ball"/>
          <p:cNvPicPr/>
          <p:nvPr/>
        </p:nvPicPr>
        <p:blipFill>
          <a:blip r:embed="rId4"/>
          <a:stretch/>
        </p:blipFill>
        <p:spPr>
          <a:xfrm>
            <a:off x="6629400" y="48006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molumen_blue_cristal_ball"/>
          <p:cNvPicPr/>
          <p:nvPr/>
        </p:nvPicPr>
        <p:blipFill>
          <a:blip r:embed="rId5"/>
          <a:stretch/>
        </p:blipFill>
        <p:spPr>
          <a:xfrm>
            <a:off x="4495680" y="5257800"/>
            <a:ext cx="150048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molumen_blue_cristal_ball"/>
          <p:cNvPicPr/>
          <p:nvPr/>
        </p:nvPicPr>
        <p:blipFill>
          <a:blip r:embed="rId6"/>
          <a:stretch/>
        </p:blipFill>
        <p:spPr>
          <a:xfrm>
            <a:off x="4419720" y="32004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8" descr="molumen_blue_cristal_ball"/>
          <p:cNvPicPr/>
          <p:nvPr/>
        </p:nvPicPr>
        <p:blipFill>
          <a:blip r:embed="rId7"/>
          <a:stretch/>
        </p:blipFill>
        <p:spPr>
          <a:xfrm>
            <a:off x="3429000" y="480060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9" descr="11971489111248351002Stellaris_Red_snooker_ball"/>
          <p:cNvPicPr/>
          <p:nvPr/>
        </p:nvPicPr>
        <p:blipFill>
          <a:blip r:embed="rId8"/>
          <a:stretch/>
        </p:blipFill>
        <p:spPr>
          <a:xfrm>
            <a:off x="7315200" y="4267080"/>
            <a:ext cx="1300320" cy="1320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0" descr="11971489111248351002Stellaris_Red_snooker_ball"/>
          <p:cNvPicPr/>
          <p:nvPr/>
        </p:nvPicPr>
        <p:blipFill>
          <a:blip r:embed="rId9"/>
          <a:stretch/>
        </p:blipFill>
        <p:spPr>
          <a:xfrm>
            <a:off x="5562720" y="553716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1" descr="11971489111248351002Stellaris_Red_snooker_ball"/>
          <p:cNvPicPr/>
          <p:nvPr/>
        </p:nvPicPr>
        <p:blipFill>
          <a:blip r:embed="rId10"/>
          <a:stretch/>
        </p:blipFill>
        <p:spPr>
          <a:xfrm>
            <a:off x="4267080" y="3962520"/>
            <a:ext cx="1300320" cy="1320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2" descr="11971489111248351002Stellaris_Red_snooker_ball"/>
          <p:cNvPicPr/>
          <p:nvPr/>
        </p:nvPicPr>
        <p:blipFill>
          <a:blip r:embed="rId11"/>
          <a:stretch/>
        </p:blipFill>
        <p:spPr>
          <a:xfrm>
            <a:off x="3048120" y="3124080"/>
            <a:ext cx="129996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3" descr="11971489111248351002Stellaris_Red_snooker_ball"/>
          <p:cNvPicPr/>
          <p:nvPr/>
        </p:nvPicPr>
        <p:blipFill>
          <a:blip r:embed="rId12"/>
          <a:stretch/>
        </p:blipFill>
        <p:spPr>
          <a:xfrm>
            <a:off x="2743200" y="5181480"/>
            <a:ext cx="1300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168120" y="152280"/>
            <a:ext cx="8975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Научная конференция проводится 3 дня. Всего запланировано 50 докладов: в первый день – 30 докладов, а остальные распределены поровну между вторым и третьим днями. Порядок докладов определяется жеребьевкой. Какова вероятность, что доклад профессора М. окажется запланированным на последний день конференц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5" descr="uchitel-10"/>
          <p:cNvPicPr/>
          <p:nvPr/>
        </p:nvPicPr>
        <p:blipFill>
          <a:blip r:embed="rId1"/>
          <a:stretch/>
        </p:blipFill>
        <p:spPr>
          <a:xfrm>
            <a:off x="3048120" y="2743200"/>
            <a:ext cx="3120840" cy="4419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3124080" y="2895480"/>
            <a:ext cx="58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04920" y="990720"/>
            <a:ext cx="849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мечательно, что наука, которая началась с рассмотрения азартных игр, обещает   стать  наиболее важным объектом человеческого знания. Ведь большей частью жизненные вопросы являются на самом деле задачами из теории вероятносте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. Лапла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168120" y="152280"/>
            <a:ext cx="897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аучная конференция проводится 3 дня. Всего запланировано 50 докладов: в первый день – 30 докладов, а остальные распределены поровну между вторым и третьим днями. Порядок докладов определяется жеребьевкой. Какова вероятность, что доклад профессора М. окажется запланированным на последний день конференц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5" descr="uchitel-10"/>
          <p:cNvPicPr/>
          <p:nvPr/>
        </p:nvPicPr>
        <p:blipFill>
          <a:blip r:embed="rId1"/>
          <a:stretch/>
        </p:blipFill>
        <p:spPr>
          <a:xfrm>
            <a:off x="-228600" y="2133720"/>
            <a:ext cx="3121200" cy="44193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3124080" y="2362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3124080" y="2895480"/>
            <a:ext cx="58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приятное событие А: доклад профессора М. окажется запланированным на последний день конферен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048120" y="4249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всех возмож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2171880" y="472428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благоприят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(A)=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50-30):2=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2300400" y="516240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TextBox 9" descr=""/>
          <p:cNvPicPr/>
          <p:nvPr/>
        </p:nvPicPr>
        <p:blipFill>
          <a:blip r:embed="rId2"/>
          <a:stretch/>
        </p:blipFill>
        <p:spPr>
          <a:xfrm>
            <a:off x="3419640" y="5052960"/>
            <a:ext cx="3755880" cy="8114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2476440" y="594360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0.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228600" y="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Перед началом первого тура чемпионата  по теннису разбивают на игровые пары случайным образом с помощью жребия. Всего в чемпионате участвует 46 теннисистов, среди которых 19 участников из России, в том числе Ярослав Исаков. Найдите вероятность того, что в первом туре Ярослав Исаков будет играть с каким – либо теннисистом из Рос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tennis"/>
          <p:cNvPicPr/>
          <p:nvPr/>
        </p:nvPicPr>
        <p:blipFill>
          <a:blip r:embed="rId1"/>
          <a:stretch/>
        </p:blipFill>
        <p:spPr>
          <a:xfrm>
            <a:off x="6705720" y="3962520"/>
            <a:ext cx="2182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228600" y="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 Перед началом первого тура чемпионата  по теннису разбивают на игровые пары случайным образом с помощью жребия. Всего в чемпионате участвует 46 теннисистов, среди которых 19 участников из России, в том числе Ярослав Исаков. Найдите вероятность того, что в первом туре Ярослав Исаков будет играть с каким – либо теннисистом из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4" descr="tennis"/>
          <p:cNvPicPr/>
          <p:nvPr/>
        </p:nvPicPr>
        <p:blipFill>
          <a:blip r:embed="rId1"/>
          <a:stretch/>
        </p:blipFill>
        <p:spPr>
          <a:xfrm>
            <a:off x="152280" y="2666880"/>
            <a:ext cx="2183040" cy="27054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3228840" y="23605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2438280" y="28195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приятное событие А: в первом туре Ярослав Исаков будет играть с каким – либо теннисист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Росс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2438280" y="41148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всех возмож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=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2438280" y="4572000"/>
            <a:ext cx="59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благоприятных исход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(A)=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3160800" y="50259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и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TextBox 9" descr=""/>
          <p:cNvPicPr/>
          <p:nvPr/>
        </p:nvPicPr>
        <p:blipFill>
          <a:blip r:embed="rId2"/>
          <a:stretch/>
        </p:blipFill>
        <p:spPr>
          <a:xfrm>
            <a:off x="4400640" y="5016600"/>
            <a:ext cx="3848040" cy="6458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0"/>
          <p:cNvSpPr/>
          <p:nvPr/>
        </p:nvSpPr>
        <p:spPr>
          <a:xfrm>
            <a:off x="2362320" y="579132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0.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4"/>
          <p:cNvSpPr/>
          <p:nvPr/>
        </p:nvSpPr>
        <p:spPr>
          <a:xfrm>
            <a:off x="1143000" y="1447920"/>
            <a:ext cx="70102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Вася, Петя, Коля и Леша бросили жребий - кому начинать игру. Найдите вероятность того,  что начинать игру должен будет Пет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Игральный кубик  (кость) бросили один раз. Какова вероятность того, что выпало число очков, больше чем 4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 Фабрика выпускает сумки. В среднем на 100 качественных сумок приходится восемь сумок со скрытыми дефектами. Найдите вероятность того, что купленная сумка окажется качественной. Результат округлите до соты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3580200" y="838080"/>
            <a:ext cx="21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4"/>
          <p:cNvSpPr/>
          <p:nvPr/>
        </p:nvSpPr>
        <p:spPr>
          <a:xfrm>
            <a:off x="1447920" y="228600"/>
            <a:ext cx="70102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В соревнованиях по толканию ядра участвуют 4 спортсмена из Финляндии, 7 спортсменов из Дании, 9 спортсменов из Швеции и 5- из Норвегии. Порядок, в котором выступают спортсмены, определяется жребием. Найдите вероятность того, что спортсмен, который выступает последним, окажется из Шве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В чемпионате по гимнастике участвуют 20 спортсменок: 8 из России, 7 из США, остальные – из Китая. Порядок, в котором выступают гимнастки, определяется жребием. Найдите вероятность того, что спортсменка, выступающая первой, окажется из Кита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1068480" y="4572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тог уро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069200" y="1828800"/>
            <a:ext cx="41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10" descr="notebookp"/>
          <p:cNvPicPr/>
          <p:nvPr/>
        </p:nvPicPr>
        <p:blipFill>
          <a:blip r:embed="rId1"/>
          <a:stretch/>
        </p:blipFill>
        <p:spPr>
          <a:xfrm>
            <a:off x="457200" y="3276720"/>
            <a:ext cx="3629160" cy="2876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BD09160"/>
          <p:cNvPicPr/>
          <p:nvPr/>
        </p:nvPicPr>
        <p:blipFill>
          <a:blip r:embed="rId2"/>
          <a:stretch/>
        </p:blipFill>
        <p:spPr>
          <a:xfrm rot="976200">
            <a:off x="6933960" y="380880"/>
            <a:ext cx="1820880" cy="21430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3"/>
          <p:cNvSpPr/>
          <p:nvPr/>
        </p:nvSpPr>
        <p:spPr>
          <a:xfrm>
            <a:off x="2743200" y="3104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шить задачи: 1,  2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4"/>
          <p:cNvSpPr/>
          <p:nvPr/>
        </p:nvSpPr>
        <p:spPr>
          <a:xfrm>
            <a:off x="1143000" y="1447920"/>
            <a:ext cx="701028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. В случайном эксперименте бросают два игральных кубика. Найдите вероятность того, что в сумме выпадет 8 оч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 В случайном эксперименте монету бросили три раза. Какова вероятность того, что орел выпал ровно два раза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2110320" y="838080"/>
            <a:ext cx="508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304920" y="914400"/>
            <a:ext cx="883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ашмаков М.И. Математика: учебник для студентов среднего профессионального образования. 10-11 кл. – М.: Просвещение, 2019. – Текст: непосредственн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ашмаков М. И. Математика (базовый уровень). 10 класс. — М.,2014. – Текст: непосредственн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льский С.М., Потапов М.К., Решетников Н.Н. и др. Алгебра и начала математического анализа (базовый и профильный уровни). 10 кл. – М.: Просвещение,  2014. – Текст: непосредственн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щенко И.В., Шестаков С.А. Математика ЕГЭ 2018.Алгебра. Геометрия. Базовый уровень. — М., 2018. – Текст: непосредственн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ысенко Ф.Ф., Кулабухова С.Ю. Математика. Подготовка к ЕГЭ-2016 (базовый уровень). — М., 2015. – Текст: непосредственны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ртышова Л.И. Открытые уроки алгебры и начал математического анализа 9-11 классы. — М., 2014. – Текст: непосредственн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тский энциклопедический словарь, 1982 го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А.Боровков «Теория вероятностей», М.: Наука, 1986 го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33520" y="21744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Литератур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28600" y="12193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ытие – это результат испыта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745360" y="0"/>
            <a:ext cx="42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то такое событие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895480" y="205740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урны наудачу берут один шар. </a:t>
            </a: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Извлеч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шара из урны ест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испытание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Появл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шара определенного цвета – </a:t>
            </a: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событ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Группа 3"/>
          <p:cNvGrpSpPr/>
          <p:nvPr/>
        </p:nvGrpSpPr>
        <p:grpSpPr>
          <a:xfrm>
            <a:off x="0" y="3733920"/>
            <a:ext cx="2959200" cy="2438280"/>
            <a:chOff x="0" y="3733920"/>
            <a:chExt cx="2959200" cy="2438280"/>
          </a:xfrm>
        </p:grpSpPr>
        <p:pic>
          <p:nvPicPr>
            <p:cNvPr id="98" name="Picture 6" descr="11971489111248351002Stellaris_Red_snooker_ball"/>
            <p:cNvPicPr/>
            <p:nvPr/>
          </p:nvPicPr>
          <p:blipFill>
            <a:blip r:embed="rId1"/>
            <a:stretch/>
          </p:blipFill>
          <p:spPr>
            <a:xfrm>
              <a:off x="380880" y="373392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8" descr="11971489111248351002Stellaris_Red_snooker_ball"/>
            <p:cNvPicPr/>
            <p:nvPr/>
          </p:nvPicPr>
          <p:blipFill>
            <a:blip r:embed="rId2"/>
            <a:stretch/>
          </p:blipFill>
          <p:spPr>
            <a:xfrm>
              <a:off x="0" y="434340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11971489111248351002Stellaris_Red_snooker_ball"/>
            <p:cNvPicPr/>
            <p:nvPr/>
          </p:nvPicPr>
          <p:blipFill>
            <a:blip r:embed="rId3"/>
            <a:stretch/>
          </p:blipFill>
          <p:spPr>
            <a:xfrm>
              <a:off x="152280" y="510552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0" descr="molumen_blue_cristal_ball"/>
            <p:cNvPicPr/>
            <p:nvPr/>
          </p:nvPicPr>
          <p:blipFill>
            <a:blip r:embed="rId4"/>
            <a:stretch/>
          </p:blipFill>
          <p:spPr>
            <a:xfrm>
              <a:off x="1066680" y="4038480"/>
              <a:ext cx="10000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2" descr="molumen_blue_cristal_ball"/>
            <p:cNvPicPr/>
            <p:nvPr/>
          </p:nvPicPr>
          <p:blipFill>
            <a:blip r:embed="rId5"/>
            <a:stretch/>
          </p:blipFill>
          <p:spPr>
            <a:xfrm>
              <a:off x="761760" y="4495680"/>
              <a:ext cx="10000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9" descr="molumen_blue_cristal_ball"/>
            <p:cNvPicPr/>
            <p:nvPr/>
          </p:nvPicPr>
          <p:blipFill>
            <a:blip r:embed="rId6"/>
            <a:stretch/>
          </p:blipFill>
          <p:spPr>
            <a:xfrm>
              <a:off x="685800" y="5105520"/>
              <a:ext cx="10000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3" descr="11971489111248351002Stellaris_Red_snooker_ball"/>
            <p:cNvPicPr/>
            <p:nvPr/>
          </p:nvPicPr>
          <p:blipFill>
            <a:blip r:embed="rId7"/>
            <a:stretch/>
          </p:blipFill>
          <p:spPr>
            <a:xfrm>
              <a:off x="1981440" y="396252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6" descr="molumen_blue_cristal_ball"/>
            <p:cNvPicPr/>
            <p:nvPr/>
          </p:nvPicPr>
          <p:blipFill>
            <a:blip r:embed="rId8"/>
            <a:stretch/>
          </p:blipFill>
          <p:spPr>
            <a:xfrm>
              <a:off x="1447920" y="4419720"/>
              <a:ext cx="10000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7" descr="11971489111248351002Stellaris_Red_snooker_ball"/>
            <p:cNvPicPr/>
            <p:nvPr/>
          </p:nvPicPr>
          <p:blipFill>
            <a:blip r:embed="rId9"/>
            <a:stretch/>
          </p:blipFill>
          <p:spPr>
            <a:xfrm>
              <a:off x="2133720" y="480060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8" descr="11971489111248351002Stellaris_Red_snooker_ball"/>
            <p:cNvPicPr/>
            <p:nvPr/>
          </p:nvPicPr>
          <p:blipFill>
            <a:blip r:embed="rId10"/>
            <a:stretch/>
          </p:blipFill>
          <p:spPr>
            <a:xfrm>
              <a:off x="1447920" y="5334120"/>
              <a:ext cx="82548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-380880" y="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предсказуемые события называются          </a:t>
            </a: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случайными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57200" y="15238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жизни мы постоянно сталкиваемся с тем, что некоторое событие может произойти, а может и не произой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5" descr="97680000"/>
          <p:cNvPicPr/>
          <p:nvPr/>
        </p:nvPicPr>
        <p:blipFill>
          <a:blip r:embed="rId1"/>
          <a:stretch/>
        </p:blipFill>
        <p:spPr>
          <a:xfrm>
            <a:off x="609480" y="3276720"/>
            <a:ext cx="2301840" cy="24764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3124080" y="3124080"/>
            <a:ext cx="6019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опубликования результат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ыгрыша лотереи событие – выигрыш, либо происходит, либо не происходи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126960" y="28195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0"/>
            <a:ext cx="91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ва события, которые в данных условиях могут происходить одновременно, называются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местными,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а те, которые не могут происходить одновременно, 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совместными.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505320" y="3233880"/>
            <a:ext cx="565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рошена монета. Появление «герба» исключает появление надписи. События «появился герб» и «появилась надпись» - несовмест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1253536924_10"/>
          <p:cNvPicPr/>
          <p:nvPr/>
        </p:nvPicPr>
        <p:blipFill>
          <a:blip r:embed="rId1"/>
          <a:stretch/>
        </p:blipFill>
        <p:spPr>
          <a:xfrm>
            <a:off x="152280" y="3352680"/>
            <a:ext cx="3137040" cy="1687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3507840" y="266688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91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вновозможным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называются события, когда в их наступлении нет преиму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04920" y="2514600"/>
            <a:ext cx="54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сть бросают игральную кост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илу симметрии кубика мож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читать, что появление любой и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ифр 1, 2, 3, 4, 5 или 6 одинако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 (равновероятн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307440" y="18288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8" descr="9964104-modern-3d-red-dice-die-that-rolled-a-six-isolated-on-a-white-background-with-shadow"/>
          <p:cNvPicPr/>
          <p:nvPr/>
        </p:nvPicPr>
        <p:blipFill>
          <a:blip r:embed="rId1"/>
          <a:stretch/>
        </p:blipFill>
        <p:spPr>
          <a:xfrm>
            <a:off x="5867280" y="35053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0492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бытие, которое происходит всегда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зывают достоверны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бытие, которое не может произойти, называется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возможны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6a2e6ed3a305c2b12a586e6ac2b"/>
          <p:cNvPicPr/>
          <p:nvPr/>
        </p:nvPicPr>
        <p:blipFill>
          <a:blip r:embed="rId1"/>
          <a:stretch/>
        </p:blipFill>
        <p:spPr>
          <a:xfrm>
            <a:off x="5486400" y="5400720"/>
            <a:ext cx="1600200" cy="1236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ar129880905551715"/>
          <p:cNvPicPr/>
          <p:nvPr/>
        </p:nvPicPr>
        <p:blipFill>
          <a:blip r:embed="rId2"/>
          <a:stretch/>
        </p:blipFill>
        <p:spPr>
          <a:xfrm>
            <a:off x="7543800" y="4863960"/>
            <a:ext cx="1600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3507840" y="20574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10" descr="3dmorf1007cb5"/>
          <p:cNvPicPr/>
          <p:nvPr/>
        </p:nvPicPr>
        <p:blipFill>
          <a:blip r:embed="rId3"/>
          <a:stretch/>
        </p:blipFill>
        <p:spPr>
          <a:xfrm>
            <a:off x="0" y="1752480"/>
            <a:ext cx="3606840" cy="270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solid-black-ball-hi"/>
          <p:cNvPicPr/>
          <p:nvPr/>
        </p:nvPicPr>
        <p:blipFill>
          <a:blip r:embed="rId4"/>
          <a:stretch/>
        </p:blipFill>
        <p:spPr>
          <a:xfrm>
            <a:off x="1676520" y="4140360"/>
            <a:ext cx="1371600" cy="965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4"/>
          <p:cNvSpPr/>
          <p:nvPr/>
        </p:nvSpPr>
        <p:spPr>
          <a:xfrm>
            <a:off x="3508560" y="2666880"/>
            <a:ext cx="507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сть из урны, содержащ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лько черные шары, вынимают ша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506760" y="3435480"/>
            <a:ext cx="45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гда появление черного шара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верное событ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3505320" y="420228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ение бел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ара – невозможное событ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Овал 2"/>
          <p:cNvSpPr/>
          <p:nvPr/>
        </p:nvSpPr>
        <p:spPr>
          <a:xfrm>
            <a:off x="762120" y="4708440"/>
            <a:ext cx="838080" cy="854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80880" y="914400"/>
            <a:ext cx="87631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роятностью события А при проведении некоторого испытания называют отношение числа тех исходов, в результате которых наступает событие А, к общему числу всех (равновозможных между собой) исходов этого испыт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0006-006-Sluchajnost-i-zdravyj-smysl"/>
          <p:cNvPicPr/>
          <p:nvPr/>
        </p:nvPicPr>
        <p:blipFill>
          <a:blip r:embed="rId1"/>
          <a:stretch/>
        </p:blipFill>
        <p:spPr>
          <a:xfrm>
            <a:off x="5257800" y="4191120"/>
            <a:ext cx="3486240" cy="2409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09600" y="304920"/>
            <a:ext cx="85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лассическое определение вероятност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533520" y="457200"/>
            <a:ext cx="883908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Цель урока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формирование основных приёмов решения простейших вероятностных задач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2-02-16T17:07:03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